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9B9-DF94-4524-8555-6EE365C1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74F8-CADD-4247-A114-DAAA1ED3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D74-1B12-46A5-A500-6D6C208E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174-1991-4E6E-89EE-E1B702AD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F54-1D26-40C2-90A2-2FC2F0FC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6FF-3ED8-4CBA-8CCD-B07C6437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FCB-E9C3-4CCF-AA3E-A7D064B6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29A-3E54-4EFA-99FE-C44F3030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EC2-4C03-4ACE-8A4C-730653A3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C98-2294-4F78-B1BB-A879DE8A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ACA-0C30-4E4C-9259-A6DF2804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458-BF79-47B5-8715-3CD6D514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3091-ECB8-4CC5-838E-3CB89010A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0SO7CamtNBDUHYAl_5XNyoA;_ylu=X3oDMTEwNTJsdXY0BGNvbG8DZQRwb3MDMgRzZWMDc2MEdnRpZANGNjczXzg3/SIG=1hi6phls4/EXP=1137837606/**http%3A//images.search.yahoo.com/search/images/view%3Fback=http%253A%252F%252Fsearch.yahoo.com%252Fsearch%253Fp%253Dpicts%252Bof%252Blightening%2526ei%253DUTF-8%2526fl%253D0%26h=324%26w=439%26imgcurl=www.captaingfb.com%252FLIGHTENING_STRIKE.jpg%26imgurl=www.captaingfb.com%252FLIGHTENING_STRIKE.jpg%26size=26.8kB%26name=LIGHTENING_STRIKE.jpg%26rcurl=http%253A%252F%252Fwww.captaingfb.com%252Fweatherlinks.html%26rurl=http%253A%252F%252Fwww.captaingfb.com%252Fweatherlinks.html%26p=lightening%26type=jpeg%26no=2%26tt=24%252C493%26fr=FP-tab-web-t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www.captaingfb.com/LIGHTENING_STRIK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Electricity on the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y Donald and J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84320" y="2565360"/>
            <a:ext cx="150804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flipH="1">
            <a:off x="7578720" y="2565360"/>
            <a:ext cx="1565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t is hazardou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Use electrical appliances near wa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verload electrical circuits, use faulty appliances, tamper with electrical appli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Young children should always be protected against the hazards of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Electric Circui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lectrical components only work when they are a part of a complet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lectrical components are such things as bulbs, batteries, buzzers, resisto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witches are used to control electric circuits by switching them on/of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rcui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35280" y="1268280"/>
          <a:ext cx="5616360" cy="48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61636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witch that you find to control a light is called a flip swi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keyboard that we used for this presentation contains a push swi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3280" y="2781360"/>
          <a:ext cx="381960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781360"/>
                    <a:ext cx="381960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92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925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925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925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925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Electric Hospital tro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 motor is an electrical component which transfers electrical energy to kinetic energy. An electrical trolley shows this in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dding more batteries increases the voltage. This makes the current flow and makes the trolley move f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www.cobb.k12.ga.us/~Simpson/Teacher%20Sites/Teacher%20Sites/Electrici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www.schellelectronics.com/SE%20WEB%20Pictures/Power%20of%20Electricit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ic current is a flow of char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urrent is measured in amperes/amps for sho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Using a resistor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esisters are used to control the size of current that flows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ig resistors allow only small currents to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mall resistors allow large currents to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here are two types of resistor fixed and variable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You can control the speed of the trolley with a variable resistor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227640" y="1844640"/>
            <a:ext cx="15573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8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385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38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92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1925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192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192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I hope you have enjoyed our presenta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0" spc="-1" strike="noStrike" u="sng">
                <a:solidFill>
                  <a:srgbClr val="ff0000"/>
                </a:solidFill>
                <a:uFillTx/>
                <a:latin typeface="Monotype Corsiva"/>
              </a:rPr>
              <a:t>The End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41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00:26Z</dcterms:created>
  <dc:creator>HalbertD</dc:creator>
  <dc:description/>
  <dc:language>en-US</dc:language>
  <cp:lastModifiedBy>Halbertd</cp:lastModifiedBy>
  <dcterms:modified xsi:type="dcterms:W3CDTF">2006-01-26T15:16:52Z</dcterms:modified>
  <cp:revision>14</cp:revision>
  <dc:subject/>
  <dc:title>Electricity on the move</dc:title>
</cp:coreProperties>
</file>